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B69-5225-43C7-AB1D-FF1FC2B6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093920"/>
            <a:ext cx="8534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AE06-71C7-4C27-8F99-1264D8D7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09392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409392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159D-A439-4D50-92FF-29A82B50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90476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90476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09392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409392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409392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590E-3B53-41AB-9134-CAAC9417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FB71-C9C1-463E-A016-871C16C1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B1B7-D07D-40D4-835B-E0A7510D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37A6-3912-423E-9DF6-DC2B969F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164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840" y="1904760"/>
            <a:ext cx="4164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1583-AB6A-475D-BD2A-7625E056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A61E-07B9-4220-AC28-74AF7F7E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F5D5-D501-44AB-8B58-23C3E98E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1904760"/>
            <a:ext cx="4164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09392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F89B-92C7-4FAD-90C9-3BF184D3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609-69C9-4C2F-8B31-573FEBFD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164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7840" y="409392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7D20-11BA-4CEE-B945-12F28AAB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4093920"/>
            <a:ext cx="8534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26FE-E576-41ED-84C5-1B2AD369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4093920"/>
            <a:ext cx="8534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C15C-F9F5-46AC-8933-5374EDC9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784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409392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7840" y="409392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ED82-97FB-43B5-8218-82780872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0680" y="190476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080" y="190476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409392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0680" y="409392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080" y="4093920"/>
            <a:ext cx="27478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5789-4378-4248-B3C3-53CFD7C6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809-913C-4A16-87F5-4DD802FF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164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904760"/>
            <a:ext cx="4164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1FA-85C1-4649-B297-31D3A1D6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D91E-B4B5-4C77-867C-65ACABB0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1A0-0D8E-4573-8726-9DB7DFF3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904760"/>
            <a:ext cx="4164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09392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D85-31CA-42B3-A8B0-3A3ECA50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164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409392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1D86-D318-4F89-843F-6E63DBAF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904760"/>
            <a:ext cx="4164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093920"/>
            <a:ext cx="8534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DD0-E176-4BF6-879E-8F40B128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047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432A-C3E8-4990-B1C4-A85FC8ACE897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E:\CLIPART\EN00005_.WMF"/>
          <p:cNvPicPr/>
          <p:nvPr/>
        </p:nvPicPr>
        <p:blipFill>
          <a:blip r:embed="rId2"/>
          <a:stretch/>
        </p:blipFill>
        <p:spPr>
          <a:xfrm>
            <a:off x="-457200" y="5486400"/>
            <a:ext cx="9906120" cy="1784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E:\CLIPART\EN00005_.WMF"/>
          <p:cNvPicPr/>
          <p:nvPr/>
        </p:nvPicPr>
        <p:blipFill>
          <a:blip r:embed="rId2"/>
          <a:stretch/>
        </p:blipFill>
        <p:spPr>
          <a:xfrm>
            <a:off x="-457200" y="5334120"/>
            <a:ext cx="9906120" cy="1784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19047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ACCB-8EE0-4210-90F7-98282A63FD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13840" y="785880"/>
            <a:ext cx="5000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Hay un comedor en mi cas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stáis en el jardí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Mi tío Ramón, está en el sal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Mi tía Angelina está en la cocin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¿Dónde están mis primo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No lo sé, ¡ni idea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Mis padres están en el desván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Y mi abuela en la azote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5" name="Picture 2" descr="C:\Program Files\Microsoft Office\MEDIA\CAGCAT10\j0185604.wmf"/>
          <p:cNvPicPr/>
          <p:nvPr/>
        </p:nvPicPr>
        <p:blipFill>
          <a:blip r:embed="rId1"/>
          <a:stretch/>
        </p:blipFill>
        <p:spPr>
          <a:xfrm>
            <a:off x="6769080" y="571680"/>
            <a:ext cx="1030320" cy="16779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56760" y="214200"/>
            <a:ext cx="30085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aeaea"/>
                </a:solidFill>
                <a:latin typeface="Times New Roman"/>
              </a:rPr>
              <a:t>Mi Cas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Documents and Settings\Teacher\Local Settings\Temporary Internet Files\Content.IE5\9F00BVRR\MPj04327900000[1].jpg"/>
          <p:cNvPicPr/>
          <p:nvPr/>
        </p:nvPicPr>
        <p:blipFill>
          <a:blip r:embed="rId3"/>
          <a:stretch/>
        </p:blipFill>
        <p:spPr>
          <a:xfrm>
            <a:off x="5162400" y="3859200"/>
            <a:ext cx="39816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60800"/>
            <a:ext cx="3008160" cy="11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Tune: I’m forever blowing bubb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Practises  parts of verb EST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Family and rooms in a ho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Transferable languag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Dónde está(n) and no lo sé /ni ide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There’s a dining room in my hous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You (lot) are in the garde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My uncle Ramón is in the living room,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My aunt Angelina is in the kitche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Where are my cousins?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I don’t know, no idea!/not a clue!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My parents are in the attic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And my granny on the roof terrace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20:00:35Z</dcterms:created>
  <dc:creator>Teacher</dc:creator>
  <dc:description/>
  <dc:language>en-US</dc:language>
  <cp:lastModifiedBy>Teacher</cp:lastModifiedBy>
  <dcterms:modified xsi:type="dcterms:W3CDTF">2010-02-19T20:02:33Z</dcterms:modified>
  <cp:revision>1</cp:revision>
  <dc:subject/>
  <dc:title>Mi Casa</dc:title>
</cp:coreProperties>
</file>